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6F56-FEBF-4157-B9C0-6FAAAD5A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87DD-B457-49B9-9705-B90C67CA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33C4-CA14-492D-9255-8052AABD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946E-EE4B-44A8-8CA9-05F3B181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7609-066C-4785-8D12-6B1DFA49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3EEF-5C8B-48D2-9E48-57FB89DC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4840-8119-4910-AB1B-3B72EF40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ADF1-7C69-42A3-B225-90481508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3A85-8C7A-45F0-A1AF-055EAD10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C818-13B8-4D34-B49F-1179E5B7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0BFA-2FB2-48BD-ADD2-A5420D74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1994-7020-4071-849C-37F82C28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32C8-E252-48DE-AFAD-F838F93F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DCE4-1E0E-4BCC-A132-8B1D36B3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7C25-BB05-4810-A9B5-BFB1BCD7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DA12-6275-4DDD-8BCF-42F5942E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FB6A-48CE-4671-A98B-AF620BC5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B367-8BCD-4634-8319-EB9ACF2E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5FE5-3166-45D4-9753-D067604B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81A7-E26C-4C1E-A4ED-93B8D8E0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D2E2-D621-4842-9DA1-731AA4DC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DF89-8345-44B7-BF28-E0CFEC11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600C-17B3-41CC-A50F-E192F8F1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031C-5811-49D6-84FE-8CAA42DB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BF8F-3C0E-438D-9B8B-A02F9D059FD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D2E4-E8F9-499F-8E88-452DF732BBE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laughingsquid.com/video-explaining-us-presidential-election-process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breen"/>
          <p:cNvPicPr/>
          <p:nvPr/>
        </p:nvPicPr>
        <p:blipFill>
          <a:blip r:embed="rId1"/>
          <a:stretch/>
        </p:blipFill>
        <p:spPr>
          <a:xfrm>
            <a:off x="0" y="304920"/>
            <a:ext cx="9134640" cy="61722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722240" y="6498720"/>
            <a:ext cx="569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teve Breen, New Jerse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-- Steve's Pulitzer Prize winning cartoons from 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sbury Park Pres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people oppose allowing the national government to decide a presidential electio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ele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state cast an overall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lectoral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ote for the winning candidat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e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lieved that the general public did not know enough about candidates or politics to cast an adequate vot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eate a system to keep the general “masses” from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irectl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voting for a Presiden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te electors cast official votes for President and Vice-President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he popular vote occur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oin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lector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en of characte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nowledgeable about politic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gree upon and select candidates who could represent the majority of the people as a President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609480" y="762120"/>
            <a:ext cx="7925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LUTION: A “fool-proof” pla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were citizens supposed to know anything about candidates from other states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“mass media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portation and communication were difficul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likely that even those citizens who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we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knowledgeable about politics could be fully informed to make decisions about candidates from other stat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ustific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ectors would keep the people from voting on candidates from their own stat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No candidate would get a national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majorit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if that happene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oda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election process is basically the sa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oting allows a voter to “tell” electors which candidate the voter wants the elector to vote for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ithless electors”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o law stating that electors 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have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to vote for the candidate that they originally pledged their vote to!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n Ideal Elec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4960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resident =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ucated M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 Political Knowledg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ajor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pular Vo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ajor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oral Vo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9" descr="barack-obama-oath-of-office-012009-by-reuters"/>
          <p:cNvPicPr/>
          <p:nvPr/>
        </p:nvPicPr>
        <p:blipFill>
          <a:blip r:embed="rId1"/>
          <a:stretch/>
        </p:blipFill>
        <p:spPr>
          <a:xfrm>
            <a:off x="4876920" y="2057400"/>
            <a:ext cx="38862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The Election Process in Plain English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6" descr="election process.jpg"/>
          <p:cNvPicPr/>
          <p:nvPr/>
        </p:nvPicPr>
        <p:blipFill>
          <a:blip r:embed="rId2"/>
          <a:stretch/>
        </p:blipFill>
        <p:spPr>
          <a:xfrm>
            <a:off x="2057400" y="2971800"/>
            <a:ext cx="46483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2160" y="2895480"/>
            <a:ext cx="7772400" cy="28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NOTHER WAY TO LOOK AT THE ELECTORAL COLLEGE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0010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mpare it to the World Series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5486040"/>
            <a:ext cx="300816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arison by George Will, newspaper columnist, journalist, author, Pulitzer Prize winn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Content Placeholder 14" descr="img-cs---yankees-world-series_072549497070.jpg"/>
          <p:cNvPicPr/>
          <p:nvPr/>
        </p:nvPicPr>
        <p:blipFill>
          <a:blip r:embed="rId1"/>
          <a:stretch/>
        </p:blipFill>
        <p:spPr>
          <a:xfrm>
            <a:off x="3352680" y="180036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lectoral College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ously, why does it even exis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lectoral Colleg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9" descr="image002"/>
          <p:cNvPicPr/>
          <p:nvPr/>
        </p:nvPicPr>
        <p:blipFill>
          <a:blip r:embed="rId1"/>
          <a:stretch/>
        </p:blipFill>
        <p:spPr>
          <a:xfrm>
            <a:off x="2895480" y="3092400"/>
            <a:ext cx="5791320" cy="35528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 majority of the electors from the 50 sta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70 electoral vo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World Series winner must be the first to win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four of a possible seven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ames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30" descr="041020_redsoxceleb_vlg_10p"/>
          <p:cNvPicPr/>
          <p:nvPr/>
        </p:nvPicPr>
        <p:blipFill>
          <a:blip r:embed="rId1"/>
          <a:stretch/>
        </p:blipFill>
        <p:spPr>
          <a:xfrm>
            <a:off x="5562720" y="2971800"/>
            <a:ext cx="2931840" cy="348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2496960" y="-719280"/>
          <a:ext cx="4151520" cy="487440"/>
        </p:xfrm>
        <a:graphic>
          <a:graphicData uri="http://schemas.openxmlformats.org/drawingml/2006/table">
            <a:tbl>
              <a:tblPr/>
              <a:tblGrid>
                <a:gridCol w="415152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Rectangle 26"/>
          <p:cNvSpPr/>
          <p:nvPr/>
        </p:nvSpPr>
        <p:spPr>
          <a:xfrm>
            <a:off x="838080" y="3505320"/>
            <a:ext cx="3733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M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ankees 10, Red Sox 7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M 2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ankees 3, Red Sox 1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M 3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ankees 19, Red Sox 8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M 4: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Red Sox 6, Yankees 4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M 5: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Red Sox 5, Yankees 4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M 6: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Red Sox 4, Yankees 2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M 7: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Red Sox 10, Yankees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152280" y="594360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Our example will use the 2004 Championship Series: Red Sox defeat Yankees.  The concept, however, is the sa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f the World Series were won by total points (popular vote)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8" descr="Picture2"/>
          <p:cNvPicPr/>
          <p:nvPr/>
        </p:nvPicPr>
        <p:blipFill>
          <a:blip r:embed="rId1"/>
          <a:stretch/>
        </p:blipFill>
        <p:spPr>
          <a:xfrm>
            <a:off x="304920" y="2971800"/>
            <a:ext cx="3746520" cy="2027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9"/>
          <p:cNvSpPr/>
          <p:nvPr/>
        </p:nvSpPr>
        <p:spPr>
          <a:xfrm>
            <a:off x="4572000" y="3200400"/>
            <a:ext cx="426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Yankees: 4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Red Sox: 41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e team scores more, but who won the serie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ou can’t change the rules in the middle of a gam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laws in the Syst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winner of the popular vote is not guaranteed the presiden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ectors are not required to vote in accordance with the popular vo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y election might have to be decided in the House of Representati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lectoral Colleg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9" descr="image002"/>
          <p:cNvPicPr/>
          <p:nvPr/>
        </p:nvPicPr>
        <p:blipFill>
          <a:blip r:embed="rId1"/>
          <a:stretch/>
        </p:blipFill>
        <p:spPr>
          <a:xfrm>
            <a:off x="2895480" y="3092400"/>
            <a:ext cx="5791320" cy="3552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 majority of the electors from the 50 sta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70 electoral vo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is the Electoral Colleg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ectors: popularly-elected representativ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mally elect the President and Vice President of the United Stat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 basically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ther than directly voting for the President and Vice President, United States citizens vote for elector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ever happened to democracy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thumbnailCA4PJYCQ.jpg"/>
          <p:cNvPicPr/>
          <p:nvPr/>
        </p:nvPicPr>
        <p:blipFill>
          <a:blip r:embed="rId1"/>
          <a:stretch/>
        </p:blipFill>
        <p:spPr>
          <a:xfrm>
            <a:off x="2590920" y="3276720"/>
            <a:ext cx="373356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e creation of the Electoral College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640" y="1676520"/>
            <a:ext cx="438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O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ramers (creators) of the U.S. Constitution.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lectoral Colle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ticle III, Section 1, Paragraphs 2 and 3 in the U.S. Constitu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EN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787 – 179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ERE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itutional Convention, Philadelphia, Pennsylvani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Y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Representa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Fea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Knowled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5" descr="Scene_at_the_Signing_of_the_Constitution_of_the_United_States"/>
          <p:cNvPicPr/>
          <p:nvPr/>
        </p:nvPicPr>
        <p:blipFill>
          <a:blip r:embed="rId1"/>
          <a:stretch/>
        </p:blipFill>
        <p:spPr>
          <a:xfrm>
            <a:off x="4724280" y="1828800"/>
            <a:ext cx="41529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ramers: Why we need electo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ames Madison, Federalist No. 39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titution was designed to be a mixture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tate-base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population-base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govern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Congress would have two houses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ate-based Sen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pulation-based House of Representativ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esident would be elected by a mixture of the two modes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epresen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lance representation (powe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g states (like New York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mall states (like Delawar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tes were already suspicious of giving the government too much control over state affair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4:12:49Z</dcterms:created>
  <dc:creator>Owner</dc:creator>
  <dc:description/>
  <dc:language>en-US</dc:language>
  <cp:lastModifiedBy>hberndt</cp:lastModifiedBy>
  <dcterms:modified xsi:type="dcterms:W3CDTF">2010-03-25T15:21:09Z</dcterms:modified>
  <cp:revision>9</cp:revision>
  <dc:subject/>
  <dc:title>Electoral College </dc:title>
</cp:coreProperties>
</file>